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CF1-D89F-4D1A-9060-3E53960F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A14C-76B4-43CA-B30D-23044555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A1E4E-C743-47C7-B428-91E73BD1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248A0-975B-4B15-80C5-968E1D97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ADA8C-D4E8-4BDE-8450-A926284A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3A0F3-BA7C-4E74-9310-036AEE75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A508B-DC21-4384-B2BD-68198D98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AA01A-A533-403F-A0F1-73910132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53852-4348-45D1-A263-3A192394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AEDF9-2584-4177-AE54-26D6B9DF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73FC8-198A-47A9-A270-30CCB8FA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C640E-9A98-4C2B-94A0-179869A8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BB8-BF5E-44D3-9463-52A4628B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EB69C-B8ED-4812-81CD-C411F8DC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B09DD-E980-4F12-90FF-871026F6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DAB5B-5960-4194-A767-DDB92D2F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EE743-1141-441D-BC6B-FDDB6B82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953B0-58CB-4AA1-8554-7EFC8072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742D3-BBBA-4DB8-8C82-9CC03B2D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A6562-5B60-4039-A746-F2300902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24F7B-5FEA-4500-95D8-D0F8B316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DFB0A-5691-4D71-A0A1-11B43699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FED80-8504-4B23-BDAD-F1E7B787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4AF-67D6-4E96-8520-1E0C0F14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C091C-284C-4918-AC92-A1B3E18D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0EC0D-8E79-4D81-A885-D0FAAAB4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96344-3BCD-435B-89A3-C43DDA2E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BAD19-6C1C-4DFA-8154-0959F9BB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857FA-A82A-4BC2-B032-F7C7BF68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C2549-B05D-405C-8FAA-80CA6E09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54DA2-5792-4380-9139-1FB37B78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5941B-2D62-450E-A57C-3B5B2D79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FA14E-5CA5-454E-AB23-531922AF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ADAE5-8602-4A04-ADD5-FDEDB746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EB89-02A4-43DE-801F-FB435DB3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835BC-4669-4B4D-8839-9A7FCA13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390A7-4FB7-429C-A8D0-88FA288F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91096-9059-4157-87CE-D12264C5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311B-7E30-4DD3-B7DE-67F743F6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ED2C-3E17-442F-BBAD-73BA19EC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A625-B56E-4318-8BDA-AACF75B8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3D97-5D64-4932-9ED4-9BB144B8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A995-E5FF-4E29-81A0-0BBC1BAA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0874-D9A4-4A43-8926-8F3802CF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8C3-F6BE-4145-9C0D-845112C0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BE90-5DDA-47E5-94FA-53A40AA3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8F78-FF40-41E8-BADF-FC3C8E05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F420-D2D7-4EAD-9345-D0B73009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C939-7707-4633-9416-931C11D0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BB35-DC0C-45BE-91A0-E95B1693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502BB-86E2-4F18-B846-329AF6FA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1206-996B-4F33-9094-69F96116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53D24-2836-480F-9B66-71D4DEB3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FF535-1201-4A15-9A4A-268795F8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FBC9E-CA2E-47E2-83AE-4F04ABBC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3D3-C465-4290-AF7C-89F06E99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56BD1-D26D-47FF-80D6-E6445BA9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871D8-CA79-42CB-9E0C-1861F02F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6C1E6-5232-4170-8605-60085334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9275-505D-46DB-91B3-1AC7BEF3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948DA-864F-4AC4-AA06-78BAB7F1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822CF-5175-4252-83AC-13D59B90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AFF2D-02AE-4F62-8154-04EA18DB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2071D-7D76-490E-B402-AE07E3CA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066FD-52BF-4E3C-9A42-3140BBA5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6BE22-F99A-47D3-83D8-00D02EDA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9D4-2D0B-453F-B07B-98534FC6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4F086-4B01-441E-AA53-67A0E856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14F2D-1D0D-4603-875D-B87B76D7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BCBE9-346D-4B5A-933C-B60878AD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B0E02-EBF8-4408-9E11-A78C94F0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834DD-5BEE-4A9D-8EFC-B0024CE1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FA1C7-C83E-4CC9-B17A-FC63D953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61055-8532-4A7D-86C0-D29CA685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C07FE-E35D-4EEA-8053-B90FD3DD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F6728-943B-42F3-BD37-3DE31CF1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B3592-5C1B-459F-8B1F-FAA0D0C8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439-2523-41F2-9F82-3949BD34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C831F-FDD5-4A9B-B9A6-ADFE2E8F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F34F9-6055-4BDA-8060-F0A9CF03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2DE4A-550E-41B9-9415-AFAE76CB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EB964-5F91-421D-8633-C1412AD6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F6955-5B23-441A-AC6E-36373A4D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B57ED-1657-4150-AD7C-933A8464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25172-3F44-46FB-B412-61237BEA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F765F-DF73-4E45-A5BA-1C022F72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1F1DB-F3BF-4F43-84DE-45939166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F3193-E5EF-4A5B-8B28-22C6E9EB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F70-5F76-4628-9628-845C5BBF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60DF2-EE17-4879-AB57-96FB750D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B4119-1D52-4F1B-8EF3-606B09EB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E8B68-3868-4D75-8CAF-8A8D6F65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880C6-019D-457A-837D-8557510C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B4B6E-F077-4E48-9D13-8081B5E0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2404F-22DC-4D0B-99F4-E0C3B964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76480-9EF7-4613-9912-566BD223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54B3D-853B-40C6-A3F7-6467B9C8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5E43D-36D0-42B7-BD45-E513ECF7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4CA52-62CC-422A-90F3-566DAD1B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2924-7CDF-48B7-AFED-CD722F60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F9AE9-5178-4D90-B3E1-DB342C22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47110-C15D-4F55-BA48-617A7677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C493B-620F-4B4A-92DA-8CAC4A82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2E026-B51D-4904-8E1A-3078E7B2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37487-F2C5-44CA-ACF1-42FA8B95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CFAF8-DDF3-4B18-9257-B55047E1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29693-013A-4C9A-A70C-C96FFCF2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D31E1-A732-4CA1-8CC4-4DF0F3D9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57091-749B-4166-B9A7-171D3518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05702-1181-4DEF-8F29-F0245780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63B-3D81-4987-BB99-08DF69D4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EA7A8-3864-40EA-BB6D-41ACFD44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1BE48-A1D1-4109-BB88-651B3256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99DE3-C2D7-4ED0-9378-54351553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1909F-355C-45FA-9E39-F0B899BE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43D9E-9391-400B-BC65-543D4883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1EB2B-E205-4FA1-858C-9974FD03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0743B-B09F-4DAA-9DAF-F0B1B8BC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9E38B-1CB4-470C-AFD8-46E470D8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898A8-9316-4399-8EBB-5487271C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2D78B-D19E-4C4A-B740-DD5F208D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C28-30B0-4ED3-B956-C4E7992C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BA454-D7D6-4F93-98AD-128154CB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0539C-ECB2-4342-8175-541FAAA6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F13D3-C200-49EE-BF86-162A3790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1508E-5DFB-4F46-9434-F0E1F9F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B6D50-6D3F-4676-B1F1-3476CE0F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3012F-751D-49D9-9240-6594F180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80C8F-CF50-48C0-AFB6-8F7FB27F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8A136-046D-438D-8293-CF38D286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1E83E-89EB-4B41-89CB-433659CF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C4C5C-0833-4CB1-B4EA-D458435A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DE96-9E99-4A28-8624-B3601970C1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9E6F-D82D-48E4-9659-F87D1B47E0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4671-A7A6-42F8-A9BD-049733BDB8B7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EC99-4284-4EC0-AFFB-F5D05337FC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560A-66F4-4886-88F1-40F345E23E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41F8-C0FB-40A1-96C6-FA8BCEB747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05DC-6454-4D18-835D-D1A7455760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1D00-F786-4640-BE48-AAB3C50F56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6EA2-C109-4E29-A237-AE8C9D78C1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E98B-F345-4A7A-BBE2-3F4F48B710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F206-4506-4690-B595-F0C876EA35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d.wav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t.wav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n.wav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l.wav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file:///d.exe" TargetMode="External"/><Relationship Id="rId4" Type="http://schemas.openxmlformats.org/officeDocument/2006/relationships/image" Target="../media/image11.png"/><Relationship Id="rId5" Type="http://schemas.openxmlformats.org/officeDocument/2006/relationships/hyperlink" Target="file:///t.exe" TargetMode="External"/><Relationship Id="rId6" Type="http://schemas.openxmlformats.org/officeDocument/2006/relationships/image" Target="../media/image12.png"/><Relationship Id="rId7" Type="http://schemas.openxmlformats.org/officeDocument/2006/relationships/hyperlink" Target="file:///n.exe" TargetMode="External"/><Relationship Id="rId8" Type="http://schemas.openxmlformats.org/officeDocument/2006/relationships/image" Target="../media/image13.png"/><Relationship Id="rId9" Type="http://schemas.openxmlformats.org/officeDocument/2006/relationships/hyperlink" Target="file:///l.exe" TargetMode="External"/><Relationship Id="rId10" Type="http://schemas.openxmlformats.org/officeDocument/2006/relationships/image" Target="../media/image1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E:\教学资料\杨黎黎教后记\dtn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5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7A8A-5897-492C-8526-F70A7DC2E827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4" name="矩形 12293"/>
          <p:cNvSpPr/>
          <p:nvPr/>
        </p:nvSpPr>
        <p:spPr>
          <a:xfrm>
            <a:off x="0" y="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5" name="矩形 12294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E:\work\新课标配套课件全集\小学全集\mxy\小学语文\图片\0dyd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3"/>
          <p:cNvSpPr/>
          <p:nvPr/>
        </p:nvSpPr>
        <p:spPr>
          <a:xfrm>
            <a:off x="3747960" y="1687680"/>
            <a:ext cx="66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d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4475160" y="1676520"/>
            <a:ext cx="63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e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3016440" y="2971800"/>
            <a:ext cx="34063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e   dē   dé   d</a:t>
            </a:r>
            <a:r>
              <a:rPr b="1" lang="en-US" sz="2800" spc="-1" strike="noStrike">
                <a:solidFill>
                  <a:srgbClr val="800080"/>
                </a:solidFill>
                <a:latin typeface="Century Gothic"/>
              </a:rPr>
              <a:t>ě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è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a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ā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á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ǎ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à</a:t>
            </a:r>
            <a:endParaRPr b="1" lang="en-US" sz="24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i 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ī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dí 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ǐ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ì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u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ū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ú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ǔ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ù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12" name="Picture 6" descr="D:\logo.gif"/>
          <p:cNvPicPr/>
          <p:nvPr/>
        </p:nvPicPr>
        <p:blipFill>
          <a:blip r:embed="rId3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13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9B06-D1F8-4D11-913E-A4CC7AF118B6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4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E:\work\新课标配套课件全集\小学全集\mxy\小学语文\图片\0cyc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00160" cy="5713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E:\work\新课标配套课件全集\小学全集\mxy\小学语文\图片\yw1p13_top.png"/>
          <p:cNvPicPr/>
          <p:nvPr/>
        </p:nvPicPr>
        <p:blipFill>
          <a:blip r:embed="rId3"/>
          <a:stretch/>
        </p:blipFill>
        <p:spPr>
          <a:xfrm>
            <a:off x="1714680" y="1600200"/>
            <a:ext cx="5715000" cy="348624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4"/>
          <p:cNvGrpSpPr/>
          <p:nvPr/>
        </p:nvGrpSpPr>
        <p:grpSpPr>
          <a:xfrm>
            <a:off x="3886200" y="5257800"/>
            <a:ext cx="3657600" cy="1143000"/>
            <a:chOff x="3886200" y="5257800"/>
            <a:chExt cx="3657600" cy="1143000"/>
          </a:xfrm>
        </p:grpSpPr>
        <p:sp>
          <p:nvSpPr>
            <p:cNvPr id="518" name="AutoShape 5"/>
            <p:cNvSpPr/>
            <p:nvPr/>
          </p:nvSpPr>
          <p:spPr>
            <a:xfrm>
              <a:off x="3886200" y="5257800"/>
              <a:ext cx="3657600" cy="1143000"/>
            </a:xfrm>
            <a:prstGeom prst="cloudCallout">
              <a:avLst>
                <a:gd name="adj1" fmla="val -16708"/>
                <a:gd name="adj2" fmla="val -114722"/>
              </a:avLst>
            </a:prstGeom>
            <a:solidFill>
              <a:srgbClr val="ffcccc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519" name="Rectangle 6"/>
            <p:cNvSpPr/>
            <p:nvPr/>
          </p:nvSpPr>
          <p:spPr>
            <a:xfrm>
              <a:off x="5244840" y="548640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读一读，编一编。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pic>
        <p:nvPicPr>
          <p:cNvPr id="520" name="Picture 7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21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0573-61E7-448A-9651-FE11760DAB1F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2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4" descr="E:\work\新课标配套课件全集\小学全集\mxy\小学语文\图片\0cyc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00160" cy="5713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9" descr="E:\work\新课标配套课件全集\小学全集\mxy\小学语文\图片\yw1p13_top00.png"/>
          <p:cNvPicPr/>
          <p:nvPr/>
        </p:nvPicPr>
        <p:blipFill>
          <a:blip r:embed="rId3"/>
          <a:stretch/>
        </p:blipFill>
        <p:spPr>
          <a:xfrm>
            <a:off x="1143000" y="1684440"/>
            <a:ext cx="4610160" cy="2811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1" descr="E:\work\新课标配套课件全集\小学全集\mxy\小学语文\图片\yw1p13_txt.png"/>
          <p:cNvPicPr/>
          <p:nvPr/>
        </p:nvPicPr>
        <p:blipFill>
          <a:blip r:embed="rId4"/>
          <a:stretch/>
        </p:blipFill>
        <p:spPr>
          <a:xfrm>
            <a:off x="5105520" y="2792520"/>
            <a:ext cx="3268440" cy="3303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2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2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3B9D-614B-4924-A27C-E77D9D6D3E26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8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9" name="矩形 23560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8C2C-465E-4F34-984E-2BC99BA83008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3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3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4"/>
          <p:cNvSpPr/>
          <p:nvPr/>
        </p:nvSpPr>
        <p:spPr>
          <a:xfrm>
            <a:off x="3200400" y="2438280"/>
            <a:ext cx="3809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悟空本领特别大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天兵天将全不怕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打败哪吒三太子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乐得悟空笑哈哈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4079880" y="1782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读儿歌：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59" name="Picture 6" descr="D:\logo.gif"/>
          <p:cNvPicPr/>
          <p:nvPr/>
        </p:nvPicPr>
        <p:blipFill>
          <a:blip r:embed="rId3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6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769B-48EF-44AE-A2A5-D901561B55E1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61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E:\work\新课标配套课件全集\小学全集\mxy\小学语文\图片\yw1p12_z.png"/>
          <p:cNvPicPr/>
          <p:nvPr/>
        </p:nvPicPr>
        <p:blipFill>
          <a:blip r:embed="rId3"/>
          <a:stretch/>
        </p:blipFill>
        <p:spPr>
          <a:xfrm>
            <a:off x="1654200" y="1752480"/>
            <a:ext cx="5834160" cy="44244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65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AC67-B5A9-441B-BC7E-D2ED8C83DCE2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6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4">
            <a:hlinkClick r:id="rId3"/>
          </p:cNvPr>
          <p:cNvSpPr/>
          <p:nvPr/>
        </p:nvSpPr>
        <p:spPr>
          <a:xfrm>
            <a:off x="1905120" y="1752480"/>
            <a:ext cx="93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d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69" name="Picture 9" descr="E:\work\新课标配套课件全集\小学全集\mxy\小学语文\图片\yw1p12_d.png"/>
          <p:cNvPicPr/>
          <p:nvPr/>
        </p:nvPicPr>
        <p:blipFill>
          <a:blip r:embed="rId4"/>
          <a:stretch/>
        </p:blipFill>
        <p:spPr>
          <a:xfrm>
            <a:off x="2743200" y="1676520"/>
            <a:ext cx="4572000" cy="4628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7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C16B-A86C-41E2-90CC-8B590C514C64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72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3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4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t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75" name="Picture 6" descr="E:\work\新课标配套课件全集\小学全集\mxy\小学语文\图片\yw1p12_t.png"/>
          <p:cNvPicPr/>
          <p:nvPr/>
        </p:nvPicPr>
        <p:blipFill>
          <a:blip r:embed="rId4"/>
          <a:stretch/>
        </p:blipFill>
        <p:spPr>
          <a:xfrm>
            <a:off x="2705040" y="1535040"/>
            <a:ext cx="4000680" cy="45608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7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7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912A-9318-4E3B-9ECB-24131A28A6C2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78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26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027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n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81" name="Picture 1028" descr="E:\work\新课标配套课件全集\小学全集\mxy\小学语文\图片\yw1p12_n.png"/>
          <p:cNvPicPr/>
          <p:nvPr/>
        </p:nvPicPr>
        <p:blipFill>
          <a:blip r:embed="rId4"/>
          <a:stretch/>
        </p:blipFill>
        <p:spPr>
          <a:xfrm>
            <a:off x="2438280" y="1646280"/>
            <a:ext cx="4572000" cy="3840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029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43A3-819E-4652-BD82-0688E849C622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84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3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l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87" name="Picture 7" descr="E:\work\新课标配套课件全集\小学全集\mxy\小学语文\图片\yw1p12_l.png"/>
          <p:cNvPicPr/>
          <p:nvPr/>
        </p:nvPicPr>
        <p:blipFill>
          <a:blip r:embed="rId4"/>
          <a:stretch/>
        </p:blipFill>
        <p:spPr>
          <a:xfrm>
            <a:off x="2362320" y="1635120"/>
            <a:ext cx="4572000" cy="3851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8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90F0-90E3-4F4B-9393-56610B976B7C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0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1" name="矩形 18440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8" descr="E:\work\新课标配套课件全集\小学全集\mxy\小学语文\图片\yw1p12_z.png"/>
          <p:cNvPicPr/>
          <p:nvPr/>
        </p:nvPicPr>
        <p:blipFill>
          <a:blip r:embed="rId3"/>
          <a:stretch/>
        </p:blipFill>
        <p:spPr>
          <a:xfrm>
            <a:off x="1441440" y="1752480"/>
            <a:ext cx="4121280" cy="31258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9"/>
          <p:cNvGrpSpPr/>
          <p:nvPr/>
        </p:nvGrpSpPr>
        <p:grpSpPr>
          <a:xfrm>
            <a:off x="4114800" y="1447920"/>
            <a:ext cx="4724280" cy="1981080"/>
            <a:chOff x="4114800" y="1447920"/>
            <a:chExt cx="4724280" cy="1981080"/>
          </a:xfrm>
        </p:grpSpPr>
        <p:sp>
          <p:nvSpPr>
            <p:cNvPr id="495" name="AutoShape 10"/>
            <p:cNvSpPr/>
            <p:nvPr/>
          </p:nvSpPr>
          <p:spPr>
            <a:xfrm>
              <a:off x="4114800" y="1447920"/>
              <a:ext cx="4724280" cy="1981080"/>
            </a:xfrm>
            <a:prstGeom prst="cloudCallout">
              <a:avLst>
                <a:gd name="adj1" fmla="val -31953"/>
                <a:gd name="adj2" fmla="val 78365"/>
              </a:avLst>
            </a:prstGeom>
            <a:solidFill>
              <a:srgbClr val="ffcccc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496" name="Text Box 11"/>
            <p:cNvSpPr/>
            <p:nvPr/>
          </p:nvSpPr>
          <p:spPr>
            <a:xfrm>
              <a:off x="4647960" y="1676520"/>
              <a:ext cx="358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再看看图片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你发现了什么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?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能想个办法记住字母吗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?</a:t>
              </a: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 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pic>
        <p:nvPicPr>
          <p:cNvPr id="497" name="Picture 12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98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5CBA-9CFE-4CF3-B71B-EC7E2D3ECCD6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9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E:\work\新课标配套课件全集\小学全集\mxy\小学语文\图片\0xyx.gif"/>
          <p:cNvPicPr/>
          <p:nvPr/>
        </p:nvPicPr>
        <p:blipFill>
          <a:blip r:embed="rId2"/>
          <a:stretch/>
        </p:blipFill>
        <p:spPr>
          <a:xfrm>
            <a:off x="1065240" y="1065240"/>
            <a:ext cx="1977840" cy="5493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E:\work\新课标配套课件全集\小学全集\mxy\小学语文\图片\xie_d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2176560"/>
            <a:ext cx="1486080" cy="25034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E:\work\新课标配套课件全集\小学全集\mxy\小学语文\图片\xie_t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27280" y="2225520"/>
            <a:ext cx="1121040" cy="2422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E:\work\新课标配套课件全集\小学全集\mxy\小学语文\图片\xie_n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03920" y="2168640"/>
            <a:ext cx="1268280" cy="24796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E:\work\新课标配套课件全集\小学全集\mxy\小学语文\图片\xie_l.pn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46800" y="2133720"/>
            <a:ext cx="1349280" cy="22971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D:\logo.gif"/>
          <p:cNvPicPr/>
          <p:nvPr/>
        </p:nvPicPr>
        <p:blipFill>
          <a:blip r:embed="rId11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06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1678-A229-4D7C-913C-FBC01C2CFA41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07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10:39:03Z</dcterms:created>
  <dc:creator/>
  <dc:description/>
  <cp:keywords/>
  <dc:language>en-US</dc:language>
  <cp:lastModifiedBy>User</cp:lastModifiedBy>
  <dcterms:modified xsi:type="dcterms:W3CDTF">2016-10-05T12:11:48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